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FF915-6781-4491-B1B6-AA9D51D73C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EB883-580D-4278-97D2-D703B83654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C1828-C944-474F-9E28-70CEDACE37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9A988-B917-4854-B783-9E6019FF6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7B2A2-3A22-48BE-BF51-100DAE50A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A928D-DC26-4CE4-A104-D94D65CA2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722EA-3F66-45D5-BE4B-8DA84466D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AB424-C657-4A7A-96B3-1DFBF21D9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33EB3-25BD-4DD2-99B7-23A7E51DB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3152D-2A9B-44BC-BBC6-FDD44FE6D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C22A3-C91E-4CEA-8F4B-AD9DC8580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0F6F4-0952-466A-BB99-38549FA11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E9406-3AE1-44E6-8C2D-4686F7AA4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75BF7-585D-433F-A67B-74A0FAD1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E8579-B9DA-45BD-B334-966FDF1CF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25E8D-94DE-4A23-A68F-94D302207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AC4DF-CDBD-4D67-9E47-A0AFC418F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BCBD2-977A-42B7-B1F8-D2CBE158A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5712D-ED25-4CCE-BFB7-0F459FE16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34365-806F-40D1-95D6-031CC85AB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74E4C-303C-4DA1-BEF5-62EA02473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52951-2EAE-4486-9328-D2B399CC7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C98EA-E476-41BC-A5E8-299E89ACD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ACD73-AD11-4F42-B790-3785ADE27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EFEFB-5F02-4B55-93B9-F2ACB1E59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DEFA6-9779-478D-A320-0234C3440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E845B-8DAC-4D9D-82B8-1B83A3EF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CAEE9-7DCE-46A3-82A4-43ACA66CC0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6EDCA-9A9C-4BC2-B85B-442BBDEAB8B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4FCE5-A905-4234-AB95-FD86D2A63DA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FCB05-AB7D-4BA4-BE5B-777872BFD3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Sample Orientation Check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ocument"/>
          <p:cNvSpPr/>
          <p:nvPr/>
        </p:nvSpPr>
        <p:spPr>
          <a:xfrm>
            <a:off x="1143000" y="1219320"/>
            <a:ext cx="6781680" cy="5333760"/>
          </a:xfrm>
          <a:prstGeom prst="pie">
            <a:avLst/>
          </a:prstGeom>
          <a:solidFill>
            <a:srgbClr val="ffffd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t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oductions to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technical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nel key 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Quality Managemen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71600" y="144792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95280" y="1371600"/>
            <a:ext cx="64771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M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 D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ITIO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53A64-DFCA-48DF-AA9A-2F38E828087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38080" y="1219320"/>
            <a:ext cx="7925040" cy="393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Performance appraisal</a:t>
            </a:r>
            <a:br>
              <a:rPr sz="3600"/>
            </a:b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 may highlight more opportunities for improvement </a:t>
            </a:r>
            <a:br>
              <a:rPr sz="3600"/>
            </a:b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for the laboratory than for the employe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1239840" cy="1981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74F49-9C5A-4676-A9C4-4F43F3D5B0E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Job Qualifications and Descri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121932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boratory Management shall have job description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at define qualifications and duties for all personnel.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 15189: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2819520"/>
            <a:ext cx="380988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certific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degr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prior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prior experi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2819520"/>
            <a:ext cx="365760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pecify lines of 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pecify responsibil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r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du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respons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porting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2438280"/>
            <a:ext cx="380988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ual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2438280"/>
            <a:ext cx="365760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Job</a:t>
            </a: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1E34C-1CE0-40DC-82DE-63EECFF6B88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Competency Assessment Checklist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t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57200" y="1981080"/>
          <a:ext cx="8229600" cy="401796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457200"/>
                <a:gridCol w="457200"/>
                <a:gridCol w="533520"/>
                <a:gridCol w="3124080"/>
              </a:tblGrid>
              <a:tr h="3528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ist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ist Tit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 for Evalu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ion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 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 procedure man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 manual read lo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ipment availabl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 area ne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gent prepa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 task accurat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 task tim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2B0E5-4552-42B8-83B4-9A01EB2C432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Competency Assessment Checklist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botto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752480"/>
          <a:ext cx="8229600" cy="443556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914400"/>
                <a:gridCol w="533520"/>
                <a:gridCol w="3124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70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ment summ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798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training required to address deficiencie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96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mmended activitie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ment to occur in _____ d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04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1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ed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4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ed Technolog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28A47-6FA2-4FE2-837D-84ADFC2FD12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ompetency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1523880"/>
            <a:ext cx="8610480" cy="4648320"/>
          </a:xfrm>
          <a:prstGeom prst="flowChartDocument">
            <a:avLst/>
          </a:prstGeom>
          <a:solidFill>
            <a:srgbClr val="ffffd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28600" y="1600200"/>
          <a:ext cx="8610480" cy="3916440"/>
        </p:xfrm>
        <a:graphic>
          <a:graphicData uri="http://schemas.openxmlformats.org/drawingml/2006/table">
            <a:tbl>
              <a:tblPr/>
              <a:tblGrid>
                <a:gridCol w="1143000"/>
                <a:gridCol w="914400"/>
                <a:gridCol w="1371600"/>
                <a:gridCol w="1371600"/>
                <a:gridCol w="1143000"/>
                <a:gridCol w="2666880"/>
              </a:tblGrid>
              <a:tr h="8280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etency  Assessment Lo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Hospital – Microbiology Laborat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loy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ais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m St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s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ment of disks too crowded;  Reassess 14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3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(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8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ad BC bott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/10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ocentrifu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4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l autocl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/08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sis data e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s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entry errors.  Read manual and reassess 10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30A29-B2E1-4EE7-B0B7-23C0C6A4194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0880" y="1523880"/>
            <a:ext cx="396252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 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sk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nked to competenc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ing operator 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ing manual up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ufacturers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quipment training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685800"/>
            <a:ext cx="4038480" cy="64224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Training</a:t>
            </a:r>
            <a:br>
              <a:rPr sz="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1752480"/>
            <a:ext cx="4267080" cy="43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 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y 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task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y 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linked to competency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ksh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urnal clu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urnals and literatur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609480"/>
            <a:ext cx="4267080" cy="520560"/>
          </a:xfrm>
          <a:prstGeom prst="rect">
            <a:avLst/>
          </a:prstGeom>
          <a:solidFill>
            <a:srgbClr val="00007d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Continuing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934320" y="3733920"/>
            <a:ext cx="1782720" cy="1484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666880" y="2971800"/>
            <a:ext cx="1109880" cy="12952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2819520" y="3505320"/>
            <a:ext cx="64764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Verdana"/>
              </a:rPr>
              <a:t>Manual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ED059-69DA-4460-A7AB-286A4182F12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E7A3A-C6C9-4B07-8576-4C9F6396D20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Verdana"/>
              </a:rPr>
              <a:t>Training Resour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1295280"/>
            <a:ext cx="35812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ality assurance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ur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thologis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ection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00600" y="1295280"/>
            <a:ext cx="41148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xte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ess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ufactur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ience socie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ld Health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enters for Disease Contro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Prev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ndards developm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ganiz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FN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514600" y="4191120"/>
            <a:ext cx="2130480" cy="236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1DE6D-A751-49B6-802C-0BA38D6A3AD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auses of Poor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1295280"/>
            <a:ext cx="37339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al heal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al distr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isundersta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iscommun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5BFED-D324-4E45-8316-9CC71568B4B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auses of Poor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1143000"/>
            <a:ext cx="74674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rksite dist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cessive work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or ori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ufficient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t competency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 complex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t or invalid S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mbiguous S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F5853-AEA5-4B17-B427-754165DCCB6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Robin Barteluk</cp:lastModifiedBy>
  <dcterms:modified xsi:type="dcterms:W3CDTF">2008-11-23T23:58:18Z</dcterms:modified>
  <cp:revision>197</cp:revision>
  <dc:subject/>
  <dc:title>Slide 1</dc:title>
</cp:coreProperties>
</file>